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ACC-8C4B-4818-99D8-096C8B82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C14-FF33-4A7E-8D89-C8386D61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A6C-D91E-4D5C-9DDF-9FD3A9E9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89E-912C-4AA9-AF1B-331466C6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1A4-BECE-4D1C-BE21-457AACC4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4B1-8E93-42B8-994C-A2C422A4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ED8-8EA6-4AFA-A6B4-C3C62C12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2A8-E931-46C0-A85E-39B7460D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B15A-F0F9-4AB8-B4B6-3E3BD3A5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B12-B5E9-4966-A2D6-724E227D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0D64-A2AD-4BD9-BCA1-4D1BAD8D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3BD-2A6E-4692-B5B5-D04F11BE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F8C5-5CC6-4001-B032-BC24F4046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aspberry" TargetMode="External"/><Relationship Id="rId2" Type="http://schemas.openxmlformats.org/officeDocument/2006/relationships/hyperlink" Target="http://en.wikipedia.org/wiki/Rubus" TargetMode="External"/><Relationship Id="rId3" Type="http://schemas.openxmlformats.org/officeDocument/2006/relationships/hyperlink" Target="http://en.wikipedia.org/wiki/Europe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Red Raspberr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; occasionally as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uropean Raspberr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rambois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or simply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aspberr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 is a red-fruited species of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ub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native to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urop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and northern Asia and commonly cultivated in other temperate regions.[1][2] A closely related plant in North America, sometimes regarded as the variety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var.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strigos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is more commonly treated as a distinct species,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ubus strigos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(American Red Raspberry), as is done here.[3] Red-fruited cultivated raspberries, even in North America, are generally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or horticultural derivatives of hybrids of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. idae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. strigosus;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these plants are all addressed in the present art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0:20:50Z</dcterms:created>
  <dc:creator>Elev</dc:creator>
  <dc:description/>
  <dc:language>en-US</dc:language>
  <cp:lastModifiedBy>Elev</cp:lastModifiedBy>
  <dcterms:modified xsi:type="dcterms:W3CDTF">2012-06-18T10:30:5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